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E547-CFA1-4846-8F33-E84E7E48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1519-BD4E-456A-940D-60FDC549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6C3A-225F-429A-BEC4-E19F79C4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B0F2-3AFF-4638-B2A3-7921E7F1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D479-7755-4239-9867-890846C0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E8E9-E58E-4A26-AF9D-4231EC24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46C5-03AF-4505-A335-7198122E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606-9519-4B05-B3FC-5D8DA681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A22C-BC61-4AA2-BBD4-EBAC0E07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F4D0-9714-4343-9280-90316A6E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A587-B633-4E52-AD90-8C5EFB91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546E-87F5-46B0-BC65-1E4854B1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A6A4-D3D5-48FF-A1E1-7A3C8FDF444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17440" y="1125360"/>
            <a:ext cx="8675640" cy="532800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4554360" y="3357720"/>
            <a:ext cx="42706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س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خلاص العبادة ظاهراً وباطنأ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خلاص الدعاء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3429000"/>
            <a:ext cx="4270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أمر بالفحش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تخاذ الشيطان اولياء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4898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23920" y="1700280"/>
            <a:ext cx="869148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ليد المحمود : ما كان موافق للكتاب و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تقليد المذموم : ما كان مخالف للكتب و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1170000" y="1052640"/>
            <a:ext cx="7745400" cy="635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3568680" y="2747880"/>
            <a:ext cx="5295960" cy="60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"/>
          <p:cNvPicPr/>
          <p:nvPr/>
        </p:nvPicPr>
        <p:blipFill>
          <a:blip r:embed="rId5"/>
          <a:stretch/>
        </p:blipFill>
        <p:spPr>
          <a:xfrm>
            <a:off x="2273400" y="4538520"/>
            <a:ext cx="6627600" cy="54612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3500280"/>
            <a:ext cx="86914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ما عملوا من أسباب الغوا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5300640"/>
            <a:ext cx="8691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كما أنشأكم أول مرة يبعثكم أحياء فترجعون إليه للحسا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6"/>
          <a:stretch/>
        </p:blipFill>
        <p:spPr>
          <a:xfrm>
            <a:off x="250920" y="1765440"/>
            <a:ext cx="864216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7920"/>
            <a:ext cx="915336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8840" y="1752480"/>
            <a:ext cx="86040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23760" y="907920"/>
            <a:ext cx="90964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0" y="776160"/>
            <a:ext cx="9132840" cy="92412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2987640" y="1052640"/>
            <a:ext cx="4376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شروط قبول العمل الصال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73288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8685000" cy="35002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95280" y="50864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عد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559116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كل وقت سجود أو مك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468360" y="595152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هداهم الله في الدني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468360" y="638316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طاعوا الشياطين فيما يخالف ما شرعه الله تعالى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دلائل الجهل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حتجاج بفعل الآباء وتقليدهم في الباط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987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كمال حكمته تعالى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لا يأمر عباده بالفحشا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أمر ال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عدل في العبادات والمعامل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له لا يأمر عباده بالفحشاء  ويأمر بالعدل في العبادات والمعاملات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ال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2"/>
          <a:stretch/>
        </p:blipFill>
        <p:spPr>
          <a:xfrm>
            <a:off x="426960" y="3452760"/>
            <a:ext cx="8429760" cy="57168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250920" y="414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الأوامر الرباني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دل ورحمة وتحقق سعادة الدنيا وفلاح الآخر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5100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تقبل العبادة إلا بشرط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26"/>
          <p:cNvSpPr/>
          <p:nvPr/>
        </p:nvSpPr>
        <p:spPr>
          <a:xfrm flipH="1">
            <a:off x="4593960" y="494172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27"/>
          <p:cNvSpPr/>
          <p:nvPr/>
        </p:nvSpPr>
        <p:spPr>
          <a:xfrm flipH="1">
            <a:off x="1499760" y="523080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8"/>
          <p:cNvCxnSpPr/>
          <p:nvPr/>
        </p:nvCxnSpPr>
        <p:spPr>
          <a:xfrm>
            <a:off x="7980120" y="523872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6443640" y="5540400"/>
            <a:ext cx="2413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وافقته للكتاب والس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37"/>
          <p:cNvCxnSpPr/>
          <p:nvPr/>
        </p:nvCxnSpPr>
        <p:spPr>
          <a:xfrm>
            <a:off x="1499760" y="52304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419040" y="5611680"/>
            <a:ext cx="16318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خلاصه 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ضلال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طاعة الشيطان والإصغاء إلى وساوس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1987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خلق العباد وجعل منه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ؤمن والكاف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الكفار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تقربون إلى الله بالباطل ويحسبون أنهم على هد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4067280" y="1197000"/>
            <a:ext cx="4724280" cy="55872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260280" y="1916280"/>
            <a:ext cx="8607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إنسان مخير ومس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هو مختار، له إرادة، وله مشيئة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لكن هذه الأشياء التي تقع منه لا تقع إلا بعد سبق القدر من الله ب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